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506-9955-4DB5-BC17-D40CAD9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C81-D967-4D35-9BF7-EC8A5B2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844-42B6-4ABF-977B-D8016F09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8F3-6CB1-4CF9-8B1C-332E5975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38A-69D6-4CCE-A9ED-7BB8070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387-92E6-46B8-BCD7-61327B4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F8B-BE49-450F-B38B-FDAF44CC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5E2-493B-45D8-A6A3-C21E25A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8D5-1BE7-4216-BFCD-4C57EC17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7BA-B41B-4F6B-B23B-58EAED8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167-164F-450D-ADFE-9BA8EF1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26B-B69D-4B46-8D62-F07214D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BD9-826C-4662-901B-C440558D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olegio Básico Pompilio Martín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AMBIENTAL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2784600"/>
            <a:ext cx="41767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jas para cuaderno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jete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jas deco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 fósf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sas para reg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rre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a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libr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rap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47640" y="404640"/>
            <a:ext cx="7056720" cy="9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¿QUE PRODUCIM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236000" y="4581360"/>
            <a:ext cx="14745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020000" y="2205000"/>
            <a:ext cx="1787400" cy="182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356000" y="4564080"/>
            <a:ext cx="1787760" cy="229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932360" y="2205000"/>
            <a:ext cx="1817640" cy="171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916360" y="2133720"/>
            <a:ext cx="1590480" cy="225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484360" y="4724280"/>
            <a:ext cx="17478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1998: P.E.I. Sobresaliente a nivel muni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1999: P.E.I. Sobresaliente con el proyecto PRAES a nivel depart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0 y 2001: Participación a nivel municipal en la feria agroindustrial y artes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o ambi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ción de excel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2 y 2003:Implementación del bachillerato con énfasis en Medio Ambiente e Informá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4: Conversión a la especialidad en Gestión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50920" y="549360"/>
            <a:ext cx="5329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ANAN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ambiental escolar que pretende el mejoramiento del entorno mediante acciones que optimicen la calidad de vida de cada miembro de la comunidad educ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19280" y="476280"/>
            <a:ext cx="5329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A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68128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11811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AES del Colegio Básico Pompilio Martínez a tenido un proceso coherente desde el año 1998, mediante la sensibilización y concientizaciòn de la comunidad educativa para proteger y conservar el medio ambi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92360" y="404640"/>
            <a:ext cx="5759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EÑA HISTORIC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360" y="4797360"/>
            <a:ext cx="3095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404640"/>
            <a:ext cx="7416720" cy="7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O INICIA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628640"/>
            <a:ext cx="5400720" cy="468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005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2332080"/>
            <a:ext cx="1655640" cy="158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2060640"/>
            <a:ext cx="1443240" cy="200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987640" y="4076640"/>
            <a:ext cx="1636920" cy="1681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788000" y="4005360"/>
            <a:ext cx="1911240" cy="195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9280" y="1341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VENE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6237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TODOS RECICLAMOS TODOS GAN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ver e impulsar la conservación del medio ambiente en las instituciones educativas de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r el desarrollo de actividades socioculturales, artísticas y ecológicas a nivel municipal departamental y n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mentar el reciclaje como microempresa escolar del C.B.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r la tecnología al proceso de reciclaje como parte de la formación integral del educand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92360" y="47628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BJETIVO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ientizaciòn de la población escolar cajiqueña acerca de la necesidad e importancia de reutilizar desechos para conservar e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r a los estudiantes en las diferentes técnicas artísticas reutilizando dese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papel reciclado para utilizarlo artística y académ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frutar del proceso de reciclaje como aprovechamiento del tiempo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rcialización de productos elaborados con el papel reciclado para fomentar la microempresa escolar y familia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765000"/>
            <a:ext cx="47530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GR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someter de nuevo una materia o producto ya utilizado a un ciclo de tratamiento parcial o total para obtener un nuevo producto o materia que pueda emplear o usar la comu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303280" cy="213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508464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howcard Gothic"/>
                <a:ea typeface="MS Gothic"/>
              </a:rPr>
              <a:t>!!SI RECICLAMOS MEJORAMOS NUESTRO ENTORNO Y DAMOS VIDA A LAS COSAS QUE NO LA TENIA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54936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 QUE ES RECICLAR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4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legio Básico Pompilio Martínez recic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periód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jas de cua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crep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l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2124360" y="2997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 RECICLA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924280"/>
            <a:ext cx="2508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emos de las diferentes dependencias de C.B.P.M. los materiales a recic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cionamos dich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someten los materiales elegidos al proceso de reciclaje agregándole diferentes sustancias como anilinas, decolorantes, achiote, residuos vegetales y otros para obtener diferentes texturas de pap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ción de productos, exhibición y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47640" y="404640"/>
            <a:ext cx="547236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O LO HACEM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3:54:02Z</dcterms:created>
  <dc:creator>Pedro Castellanos</dc:creator>
  <dc:description/>
  <dc:language>en-US</dc:language>
  <cp:lastModifiedBy>Pedro Castellanos</cp:lastModifiedBy>
  <dcterms:modified xsi:type="dcterms:W3CDTF">2006-06-01T03:39:17Z</dcterms:modified>
  <cp:revision>8</cp:revision>
  <dc:subject/>
  <dc:title>Colegio Básico Pompilio Martínez</dc:title>
</cp:coreProperties>
</file>